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2AEE-ECFB-4EC2-AA8A-AAC3484B651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F60A-5AE9-4D26-A577-DEB5D71668AC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0730-181C-40CC-AC6A-343CF4420C71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D86F-C402-457B-8DCD-AC1F62C8723A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09FB-41B1-4F84-9CD5-B637D1FB3116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0557-C259-4372-9C56-CE310A20E744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5A4D-F2E6-4EC7-8E77-5C24443809CA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3099-EE40-4102-A7B1-18FD532A9A49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6DF0-2DCE-460A-9036-63CC16C3F1AA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411D-8B5D-4AF4-BBB4-2C3799EA2ED0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4E8-B0CB-48CE-A77B-B0B5249F78FE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6CDB-F0E7-4804-A11D-120BE7EF9E04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234A-F239-4A41-8B6A-B79EF115FC28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B0A8-E21A-4493-A42E-6D551D87F7BE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C6B3-63CD-4705-BA40-0BB0382538FF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95B5-5740-49FB-977D-9FF654235C6B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DC57-4353-480E-8B75-E7ECD71C1A15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4BC-CAF3-4ACA-9BB6-4C092A6F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44D-106C-4027-AFF7-5198AA1E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521-7320-42FA-B883-1035FDF9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05C-CB05-4230-AB0D-41AF60AB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1EB2-586B-4F26-804E-118B4FB2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4CB1-DEF6-4931-8541-2594C5E8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9F07-65A6-4451-8A8B-E6EC7342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C918-A939-41DD-86CB-9F0705ED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ED85-212D-4069-B4DC-19D79C42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42D7-1F4B-40F1-99DF-7807EA44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67A1-9357-49F3-8280-6379FC8C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AF8-3A2B-48E3-860D-34D4B750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338A-EDDD-45FC-BDDD-3E929816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6CA3-9396-4C42-A72C-799EA273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414E-4E1E-4111-B2F3-E7E35E85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3F0A-642A-4831-92A5-8F43E392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9CFC-D419-4EEF-AE92-CEDA3413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392-D6BC-4497-8435-7BCF5368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102-01D9-4332-9489-CCF450D3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485-0042-4457-87E2-EAE24002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6E1-271A-44D8-B5F5-5E9B3E55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A2B-E426-466D-9352-B06799DD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6E8-C6D2-4EE0-A801-1BB0E5AE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3B3-1D0E-4207-A727-A5AB3F75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4D9F-7FDB-4EA4-BFFB-9F14C927C7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8F63-53F1-4CA2-A36E-71229B7E1F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5120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etting the Stag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llianc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riple Allianc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ermany/ Austria Hung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879 – Dual Alli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82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a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Joins the Alli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sier to negotiate land back from Aust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ar of Attack from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ire for land off coast of Gree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made agreements to come to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ach others ai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even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ra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uss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ta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rita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Germany reaches out to Britain in Friend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Britain refuses German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s overtures of friendship; prefers not to be entangled in continental affairs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Splendid Iso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finitio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A refusal to become entangled in the issues of the conti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lendid Isol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s to End iso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tions with Germany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ries about being on the fringes of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tstanding quarrel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ctions to the Boer Wa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challenges to Britain's economic pow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d to isol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1902 Anglo Japanese Trea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If either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untry was at w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with just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one other count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then they would remai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If at war with two nations the other would come to its a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Signs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tente Cordiale (friendly understanding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190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Agreement with France to guard against ever present German thre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Britain would retain Egypt in return for the helping France to take over Moroc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iple Enten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1907  Russia and Britain form an Entente solidifying the Triple Ent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Unlike Triple Alli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untries not required to go to war in the event of an att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Just provide Moral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5" name="Picture 4" descr="alliance_entente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9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ther Treaties and Secret Allian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eaty of London 186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land promises t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tect Belgium’s Neutra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event of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and Serbia sign a trea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ssia will protect Serbia in the event of inva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aly will sign a secret treaty with France not to attack each oth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fww0011"/>
          <p:cNvPicPr/>
          <p:nvPr/>
        </p:nvPicPr>
        <p:blipFill>
          <a:blip r:embed="rId1"/>
          <a:stretch/>
        </p:blipFill>
        <p:spPr>
          <a:xfrm>
            <a:off x="1187280" y="1484280"/>
            <a:ext cx="71629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log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isolated France by diplomacy and Franco Prussian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insurance Treat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ussi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880’s, to stay on friendly te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iser Willem I dies Kaiser Wilhelm II takes o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helm II and Bismarck Clash in two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av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helm wants to build it up; Bismarck wants to wa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us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es no reason to remain on Friendly terms with Rus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Content Placeholder 3" descr="THREEEMPERORS.png"/>
          <p:cNvPicPr/>
          <p:nvPr/>
        </p:nvPicPr>
        <p:blipFill>
          <a:blip r:embed="rId1"/>
          <a:stretch/>
        </p:blipFill>
        <p:spPr>
          <a:xfrm>
            <a:off x="1676520" y="396720"/>
            <a:ext cx="510516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Content Placeholder 3" descr="BYEBISMARCK.png"/>
          <p:cNvPicPr/>
          <p:nvPr/>
        </p:nvPicPr>
        <p:blipFill>
          <a:blip r:embed="rId1"/>
          <a:stretch/>
        </p:blipFill>
        <p:spPr>
          <a:xfrm>
            <a:off x="2819520" y="284040"/>
            <a:ext cx="382104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Reinsurance Trea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with Russia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lap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Kais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is focused o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military build u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and influence in the Balk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ussia/ France the beginnings of an Alli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Seeks new alli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ran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bee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iving large loans to Rus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 longer iso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now facing possible two front att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urroundmap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48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ual Enten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95 France and Russia Create th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ual En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ra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ul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Russia was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ttacke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by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rman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ul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Fra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France was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ttacked by Germa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ny member of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iple Allia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bilized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n both dual Entente would mobilize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21:37:59Z</dcterms:created>
  <dc:creator> </dc:creator>
  <dc:description/>
  <dc:language>en-US</dc:language>
  <cp:lastModifiedBy>MacAdmin Kis</cp:lastModifiedBy>
  <dcterms:modified xsi:type="dcterms:W3CDTF">2009-02-04T22:43:42Z</dcterms:modified>
  <cp:revision>9</cp:revision>
  <dc:subject/>
  <dc:title>Setting the Stage</dc:title>
</cp:coreProperties>
</file>